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28D-ECEC-4900-85E9-C612CC50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93B-85AE-4FC5-911C-7695EFDF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CA9-E682-4177-8F26-FD31971E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023-0DBA-4927-A5DC-DE82AF7A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E40-1527-4AAC-90C7-250161BA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203-4C65-4D15-852B-EE319214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550-1D4C-48CE-9FEF-DF7D76F8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DB00-9FCF-459C-AEF5-2794787E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8F0-CB14-43BC-B0CE-FF5E16AF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931-0566-4F3B-BAA2-7EE126D4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F00-03C6-4693-A32B-B150EBE1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028-99BD-486B-A47D-CB99C2E0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AD3C-C642-433C-BF4B-00D3C2245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8360" y="981000"/>
          <a:ext cx="2303280" cy="3764160"/>
        </p:xfrm>
        <a:graphic>
          <a:graphicData uri="http://schemas.openxmlformats.org/drawingml/2006/table">
            <a:tbl>
              <a:tblPr/>
              <a:tblGrid>
                <a:gridCol w="503280"/>
                <a:gridCol w="360360"/>
                <a:gridCol w="287280"/>
                <a:gridCol w="431640"/>
                <a:gridCol w="289080"/>
                <a:gridCol w="431640"/>
              </a:tblGrid>
              <a:tr h="33660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AP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met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8480">
                <a:tc rowSpan="20">
                  <a:txBody>
                    <a:bodyPr lIns="18000" rIns="18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ES HISTÓRIC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01-2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-04-2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-07-2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-10-2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01-2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04-2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-07-2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-10-2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01-20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-04-20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07-20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-10-20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01-20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04-20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07-20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10-20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01-200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-06-200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8-10-200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04292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alores Histó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836640"/>
            <a:ext cx="215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59280" y="981000"/>
          <a:ext cx="2592360" cy="1943280"/>
        </p:xfrm>
        <a:graphic>
          <a:graphicData uri="http://schemas.openxmlformats.org/drawingml/2006/table">
            <a:tbl>
              <a:tblPr/>
              <a:tblGrid>
                <a:gridCol w="505080"/>
                <a:gridCol w="576000"/>
                <a:gridCol w="503280"/>
                <a:gridCol w="504720"/>
                <a:gridCol w="503280"/>
              </a:tblGrid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A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OÑ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IE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.Esta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16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 med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med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059280" y="32846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lculo de índice de estacion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84720" y="981000"/>
          <a:ext cx="622080" cy="3500640"/>
        </p:xfrm>
        <a:graphic>
          <a:graphicData uri="http://schemas.openxmlformats.org/drawingml/2006/table">
            <a:tbl>
              <a:tblPr/>
              <a:tblGrid>
                <a:gridCol w="622080"/>
              </a:tblGrid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 s/es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9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7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1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9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8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0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4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1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7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4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8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9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2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87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3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8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924360" y="33336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alores Históricos sin estacion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62064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0360" y="2492280"/>
            <a:ext cx="1511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356000" y="2421000"/>
            <a:ext cx="142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692360" y="836640"/>
          <a:ext cx="1841400" cy="5268960"/>
        </p:xfrm>
        <a:graphic>
          <a:graphicData uri="http://schemas.openxmlformats.org/drawingml/2006/table">
            <a:tbl>
              <a:tblPr/>
              <a:tblGrid>
                <a:gridCol w="330120"/>
                <a:gridCol w="432000"/>
                <a:gridCol w="287280"/>
                <a:gridCol w="288720"/>
                <a:gridCol w="503280"/>
              </a:tblGrid>
              <a:tr h="11232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ABORACIÓN NORM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8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rowSpan="12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E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4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7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7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3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7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3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6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ABORACIÓN PLANE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9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6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5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8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rowSpan="20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CIÓN PLANES DESCONTAMINACIÓN / PRVENCIÓ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4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7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7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3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7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3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6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9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6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5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780000" y="404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Valores Proyectados Sin Esta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51280" y="69228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003640" y="836640"/>
          <a:ext cx="525600" cy="5184360"/>
        </p:xfrm>
        <a:graphic>
          <a:graphicData uri="http://schemas.openxmlformats.org/drawingml/2006/table">
            <a:tbl>
              <a:tblPr/>
              <a:tblGrid>
                <a:gridCol w="525600"/>
              </a:tblGrid>
              <a:tr h="1173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6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3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73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8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3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4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1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3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8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4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7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8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3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9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3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4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635280" y="3860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285264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Valores Proyectados Con Esta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184464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X Coeficiente     Estacionalida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1341360"/>
            <a:ext cx="144360" cy="136692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177336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álculo de Percentil 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940360" y="3357720"/>
          <a:ext cx="504720" cy="2766960"/>
        </p:xfrm>
        <a:graphic>
          <a:graphicData uri="http://schemas.openxmlformats.org/drawingml/2006/table">
            <a:tbl>
              <a:tblPr/>
              <a:tblGrid>
                <a:gridCol w="504720"/>
              </a:tblGrid>
              <a:tr h="14256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es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 Norm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5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7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8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64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04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8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8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9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2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877080" y="3357720"/>
          <a:ext cx="503280" cy="2806560"/>
        </p:xfrm>
        <a:graphic>
          <a:graphicData uri="http://schemas.openxmlformats.org/drawingml/2006/table">
            <a:tbl>
              <a:tblPr/>
              <a:tblGrid>
                <a:gridCol w="503280"/>
              </a:tblGrid>
              <a:tr h="18828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erencial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ámetr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9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9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3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0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9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4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3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9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2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06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7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9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3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4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78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3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5651640" y="4653000"/>
            <a:ext cx="215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88000" y="4653000"/>
            <a:ext cx="21600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4:26:58Z</dcterms:created>
  <dc:creator>Jorge Ortiz</dc:creator>
  <dc:description/>
  <dc:language>en-US</dc:language>
  <cp:lastModifiedBy>Jorge Ortiz</cp:lastModifiedBy>
  <dcterms:modified xsi:type="dcterms:W3CDTF">2005-12-08T20:09:56Z</dcterms:modified>
  <cp:revision>7</cp:revision>
  <dc:subject/>
  <dc:title>Diapositiva 1</dc:title>
</cp:coreProperties>
</file>